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A42-C19E-4055-8C2B-776DF84E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F06-01E8-4ADD-A931-3A40ACD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0F4-1242-4820-A9E4-8159EDF3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DC2-6DB4-4DD8-BC16-A534C3C1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342F-7A97-462C-87DB-70A7C80A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57F-EAB0-4BFE-8DF6-94396AD9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FCFC-2E97-465E-AF78-9BFA9BA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804-97C0-4B84-B25F-0DFFD69D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8DA-366B-4B42-9D7B-2BB48A2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ADBC-5F38-49CB-ABBA-B0F6AFA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AC2-92E5-469A-B4ED-66E0DBF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D52-C4CE-4ECE-9C16-FC8DBCC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72E1-1F6C-4DBF-8CF5-1F19620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182E-A533-492F-9452-EC47AF0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EAFC-0F4E-4C79-869E-D587875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D69-12ED-48D5-9437-37ED5971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5F9-61AD-4FBF-BDAB-19237104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479-27CB-48B1-9F1C-1DF5F0E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2F2-45B2-485A-B6D6-2225C96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B50-1A63-43B7-88B7-3A33AF7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FD5-8B94-4157-B833-9CA38F6C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0F2-0637-449C-9D52-1F31D73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AD2-2180-4017-BC3B-D19491F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78A-49B1-481D-BB3A-D412883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C406-0A79-4269-96F3-9C762B5422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024-AEB2-40CC-8948-6CFAC2F0FB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lfKdbWwruY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rest-O-Meter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1676520"/>
            <a:ext cx="9372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ease take out your completed “Unrest” pac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267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8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r man, Napoleon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makes a lead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”? What qu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hey hav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 bad person s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a great lead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Napoleon-Bonaparte"/>
          <p:cNvPicPr/>
          <p:nvPr/>
        </p:nvPicPr>
        <p:blipFill>
          <a:blip r:embed="rId1"/>
          <a:stretch/>
        </p:blipFill>
        <p:spPr>
          <a:xfrm>
            <a:off x="-9075600" y="0"/>
            <a:ext cx="3085920" cy="396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Napoleon-Bonaparte"/>
          <p:cNvPicPr/>
          <p:nvPr/>
        </p:nvPicPr>
        <p:blipFill>
          <a:blip r:embed="rId2"/>
          <a:stretch/>
        </p:blipFill>
        <p:spPr>
          <a:xfrm>
            <a:off x="5257800" y="1600200"/>
            <a:ext cx="3502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Leaders are made, they are not born. They are made by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rd effo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is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ich all of us must pay to achieve any goal that is worthwhile." 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Vince Lombar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er GB C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4019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does not corrupt man;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o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however, if they get into a position of power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upt 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George Bernard Sh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2884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arly all men can stan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ers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but if you want to test a man's character, give him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braham Lincol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P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798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are some ideas about leadership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fore we acquire gre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e must acqui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sdo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use it well.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alph Waldo Em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2448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poleon Bonapar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, great leaders are great for the good things they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, they are also remembered for the not-so-good things they 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Napoleon-Bonaparte"/>
          <p:cNvPicPr/>
          <p:nvPr/>
        </p:nvPicPr>
        <p:blipFill>
          <a:blip r:embed="rId1"/>
          <a:stretch/>
        </p:blipFill>
        <p:spPr>
          <a:xfrm>
            <a:off x="685800" y="1676520"/>
            <a:ext cx="3187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Napoleon-Bonaparte"/>
          <p:cNvPicPr/>
          <p:nvPr/>
        </p:nvPicPr>
        <p:blipFill>
          <a:blip r:embed="rId1"/>
          <a:stretch/>
        </p:blipFill>
        <p:spPr>
          <a:xfrm>
            <a:off x="3429000" y="3886200"/>
            <a:ext cx="2023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 HERO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mething to cheer you up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 Rights Week – You can still turn in your permission slip for tomorrow! Bring it to the PAC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ur, signed by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ur teacher and a parent/guardian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youtube.com/watch?v=zlfKdbWwru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have two short articles/readings about Napoleon’s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use the evidence from these two readings to decide whether you think Napoleon should be remembered as a HERO… or as a VILLAI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YOU DECIDE: Hero or Villai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2 articles (1 page, front and b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 your graphic organizer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T LEAST 4-5 pieces of evidence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ER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T LEAST 4-5 pieces of evidence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IL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need to be complete sentences, but should includ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his info for next class peri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Monday, Nov. 1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 LATE WORK COUP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ast week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orked with Season Buddies to dissect the many different events of the French Rev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homework… You were to complete the “Unrest Rating” and “Rational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important were these ev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uch unrest did they ad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00"/>
                </a:solidFill>
                <a:latin typeface="Garamond"/>
              </a:rPr>
              <a:t>HOW DO THESE EVENTS AFFECT  THE </a:t>
            </a:r>
            <a:r>
              <a:rPr b="1" lang="en-US" sz="3400" spc="-1" strike="noStrike" u="sng">
                <a:solidFill>
                  <a:srgbClr val="999900"/>
                </a:solidFill>
                <a:uFillTx/>
                <a:latin typeface="Garamond"/>
              </a:rPr>
              <a:t>UNREST-O-METER?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591080" cy="3967200"/>
          </a:xfrm>
          <a:prstGeom prst="rect">
            <a:avLst/>
          </a:prstGeom>
          <a:ln w="0">
            <a:noFill/>
          </a:ln>
        </p:spPr>
      </p:pic>
      <p:sp>
        <p:nvSpPr>
          <p:cNvPr id="99" name="Right Arrow Callout 7"/>
          <p:cNvSpPr/>
          <p:nvPr/>
        </p:nvSpPr>
        <p:spPr>
          <a:xfrm>
            <a:off x="380880" y="3429000"/>
            <a:ext cx="2057400" cy="2438280"/>
          </a:xfrm>
          <a:prstGeom prst="rightArrowCallout">
            <a:avLst>
              <a:gd name="adj1" fmla="val 27590"/>
              <a:gd name="adj2" fmla="val 27587"/>
              <a:gd name="adj3" fmla="val 17514"/>
              <a:gd name="adj4" fmla="val 73301"/>
            </a:avLst>
          </a:prstGeom>
          <a:solidFill>
            <a:srgbClr val="0a90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Little or no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Doesn’t add much t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Schoolbook"/>
              </a:rPr>
              <a:t>Small importance. Small 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Callout 10"/>
          <p:cNvSpPr/>
          <p:nvPr/>
        </p:nvSpPr>
        <p:spPr>
          <a:xfrm flipH="1">
            <a:off x="6324480" y="2819520"/>
            <a:ext cx="2362320" cy="1904760"/>
          </a:xfrm>
          <a:prstGeom prst="rightArrowCallout">
            <a:avLst>
              <a:gd name="adj1" fmla="val 25002"/>
              <a:gd name="adj2" fmla="val 25000"/>
              <a:gd name="adj3" fmla="val 23001"/>
              <a:gd name="adj4" fmla="val 65713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Large effect. Adds a lot of ten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Schoolbook"/>
              </a:rPr>
              <a:t>VERY important. Larger 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447920"/>
            <a:ext cx="3581280" cy="990360"/>
          </a:xfrm>
          <a:prstGeom prst="wedgeRectCallout">
            <a:avLst>
              <a:gd name="adj1" fmla="val -2347"/>
              <a:gd name="adj2" fmla="val 100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effect is seen. Adds to the tension!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impor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#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ith your Summer Buddy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a piece of looseleaf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ONE buddy’s name in the top left corner, put the OTHER buddy’s name in the top right cor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nswer the Four Question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ing your Unrest-O-Meter packet and your background knowled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be coming around to check if you finished your pack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DID FINISH – you can get up to full credit for this assignment and the Q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DID NOT FINISH – you can get up to ½ credit if you are still working with your partner and helping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minutes to finish. Turn in with nam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ummer Buddies: Four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your Unrest-O-Meter, work with your Buddy to answer the following ques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event contributed THE MOST to the coming of the French Revolution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King Louis XVI have done to prevent it? Think about the choices he made or didn’t make during certain event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the citizens of France have done to prevent 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d to summarize the cause of the French Revolution in one sentence, what would i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gacy of the French Revol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 (~20: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 your own… Think Now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BACK of your Unrest packet, brainstorm as we watch the video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REE reasons the French Revolution should be considered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REE reasons the French Revolution should be considered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erall opinion?  Explai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reak time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76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22:30Z</dcterms:created>
  <dc:creator>MCPASD</dc:creator>
  <dc:description/>
  <dc:language>en-US</dc:language>
  <cp:lastModifiedBy>MCPASD</cp:lastModifiedBy>
  <dcterms:modified xsi:type="dcterms:W3CDTF">2011-11-09T19:08:08Z</dcterms:modified>
  <cp:revision>11</cp:revision>
  <dc:subject/>
  <dc:title>Unrest-O-Meter</dc:title>
</cp:coreProperties>
</file>